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41.jpeg" ContentType="image/jpeg"/>
  <Override PartName="/ppt/media/image38.jpeg" ContentType="image/jpeg"/>
  <Override PartName="/ppt/media/image34.png" ContentType="image/png"/>
  <Override PartName="/ppt/media/image40.jpeg" ContentType="image/jpeg"/>
  <Override PartName="/ppt/media/image1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71B9-05A5-43E9-B68B-2B019E256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882-AD78-4E7A-92AE-82BEAF8E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3FC-410A-4DD7-9FC4-280726EB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CD5-A2E9-4BFB-ADEA-F1F6A23C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C37-BD92-40F8-AD69-5B5A97CE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B55-C287-44C0-AAA6-A4E07D05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2DD-4459-4365-94A6-6D10B16D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394-CCA6-45E8-A427-7956A625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123-C192-431A-89C3-ECF93442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771-1A0E-497F-95BF-3F62558E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2F4-A96B-4F91-B563-AAEFE020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558-2842-40B4-9530-B005A54E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871-9725-4B3A-A7BC-EF1C425E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BEBB-5F1D-405F-BCF6-2D82032995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D4B1-0FAB-47AF-AEA7-8A6BE6BB1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http://aether.lbl.gov/www/projects/cobe/cmb_fluctuations_big.jpg"/>
          <p:cNvPicPr/>
          <p:nvPr/>
        </p:nvPicPr>
        <p:blipFill>
          <a:blip r:embed="rId1"/>
          <a:stretch/>
        </p:blipFill>
        <p:spPr>
          <a:xfrm>
            <a:off x="5715000" y="4137120"/>
            <a:ext cx="3276720" cy="19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cv.nrao.edu/course/astr534/images/VLA.jpg"/>
          <p:cNvPicPr/>
          <p:nvPr/>
        </p:nvPicPr>
        <p:blipFill>
          <a:blip r:embed="rId2"/>
          <a:stretch/>
        </p:blipFill>
        <p:spPr>
          <a:xfrm>
            <a:off x="246240" y="4108320"/>
            <a:ext cx="295416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oneminuteastronomer.com/wp-content/uploads/2008/06/Grote-Reber-Radio-Telescope.jpg"/>
          <p:cNvPicPr/>
          <p:nvPr/>
        </p:nvPicPr>
        <p:blipFill>
          <a:blip r:embed="rId3"/>
          <a:stretch/>
        </p:blipFill>
        <p:spPr>
          <a:xfrm>
            <a:off x="7086600" y="136440"/>
            <a:ext cx="1990800" cy="2478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www.nasa.gov/images/content/230240main_Pulsar1_sm.jpg"/>
          <p:cNvPicPr/>
          <p:nvPr/>
        </p:nvPicPr>
        <p:blipFill>
          <a:blip r:embed="rId4"/>
          <a:stretch/>
        </p:blipFill>
        <p:spPr>
          <a:xfrm>
            <a:off x="130320" y="76320"/>
            <a:ext cx="19508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2819520" y="2057400"/>
            <a:ext cx="3352680" cy="15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amazing-space.stsci.edu/resources/explorations/groundup/lesson/bios/reber/graphics/bio_reber.jpg"/>
          <p:cNvPicPr/>
          <p:nvPr/>
        </p:nvPicPr>
        <p:blipFill>
          <a:blip r:embed="rId1"/>
          <a:stretch/>
        </p:blipFill>
        <p:spPr>
          <a:xfrm>
            <a:off x="6324480" y="1219320"/>
            <a:ext cx="2362320" cy="3016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6409800" y="423540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www.oneminuteastronomer.com/wp-content/uploads/2008/06/Grote-Reber-Radio-Telescope.jpg"/>
          <p:cNvPicPr/>
          <p:nvPr/>
        </p:nvPicPr>
        <p:blipFill>
          <a:blip r:embed="rId2"/>
          <a:stretch/>
        </p:blipFill>
        <p:spPr>
          <a:xfrm>
            <a:off x="3660840" y="3429000"/>
            <a:ext cx="257184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ile:Reber Plaque.JPG"/>
          <p:cNvPicPr/>
          <p:nvPr/>
        </p:nvPicPr>
        <p:blipFill>
          <a:blip r:embed="rId3"/>
          <a:stretch/>
        </p:blipFill>
        <p:spPr>
          <a:xfrm>
            <a:off x="150840" y="1219320"/>
            <a:ext cx="6478560" cy="5322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142640"/>
            <a:ext cx="441972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upload.wikimedia.org/wikipedia/en/a/af/Arecibo_Observatory.jpg"/>
          <p:cNvPicPr/>
          <p:nvPr/>
        </p:nvPicPr>
        <p:blipFill>
          <a:blip r:embed="rId1"/>
          <a:stretch/>
        </p:blipFill>
        <p:spPr>
          <a:xfrm>
            <a:off x="5373720" y="114300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on.br/glossario/alfabeto/v/imagens/vla3_grande.jpg"/>
          <p:cNvPicPr/>
          <p:nvPr/>
        </p:nvPicPr>
        <p:blipFill>
          <a:blip r:embed="rId2"/>
          <a:stretch/>
        </p:blipFill>
        <p:spPr>
          <a:xfrm>
            <a:off x="5257800" y="4098960"/>
            <a:ext cx="3660840" cy="2746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427280" y="157788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602160" y="5904000"/>
            <a:ext cx="16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406440" y="2209680"/>
            <a:ext cx="3882960" cy="361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moscowtopnews.com/image/article/1/1/6/2116.jpeg"/>
          <p:cNvPicPr/>
          <p:nvPr/>
        </p:nvPicPr>
        <p:blipFill>
          <a:blip r:embed="rId2"/>
          <a:stretch/>
        </p:blipFill>
        <p:spPr>
          <a:xfrm>
            <a:off x="4876920" y="2209680"/>
            <a:ext cx="3654360" cy="3654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766080" y="60148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573880" y="6014880"/>
            <a:ext cx="20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upload.wikimedia.org/wikipedia/commons/thumb/6/62/Magellan_deploy.jpg/256px-Magellan_deploy.jpg"/>
          <p:cNvPicPr/>
          <p:nvPr/>
        </p:nvPicPr>
        <p:blipFill>
          <a:blip r:embed="rId3"/>
          <a:stretch/>
        </p:blipFill>
        <p:spPr>
          <a:xfrm>
            <a:off x="3817800" y="1523880"/>
            <a:ext cx="2886120" cy="28749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mpifr-bonn.mpg.de/public/pr/m31co.23.2.jpg"/>
          <p:cNvPicPr/>
          <p:nvPr/>
        </p:nvPicPr>
        <p:blipFill>
          <a:blip r:embed="rId1"/>
          <a:stretch/>
        </p:blipFill>
        <p:spPr>
          <a:xfrm>
            <a:off x="3429000" y="1268280"/>
            <a:ext cx="2894040" cy="328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mpifr-bonn.mpg.de/public/pr/m31.opt.jpg"/>
          <p:cNvPicPr/>
          <p:nvPr/>
        </p:nvPicPr>
        <p:blipFill>
          <a:blip r:embed="rId2"/>
          <a:stretch/>
        </p:blipFill>
        <p:spPr>
          <a:xfrm>
            <a:off x="457200" y="1298520"/>
            <a:ext cx="266688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609480" y="45561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http://www.mpifr-bonn.mpg.de/public/pr/picoveleta_medium.jpg"/>
          <p:cNvPicPr/>
          <p:nvPr/>
        </p:nvPicPr>
        <p:blipFill>
          <a:blip r:embed="rId3"/>
          <a:stretch/>
        </p:blipFill>
        <p:spPr>
          <a:xfrm>
            <a:off x="5897520" y="108756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www.mpifr-bonn.mpg.de/public/pr/m31_co_vers2.jpg"/>
          <p:cNvPicPr/>
          <p:nvPr/>
        </p:nvPicPr>
        <p:blipFill>
          <a:blip r:embed="rId4"/>
          <a:stretch/>
        </p:blipFill>
        <p:spPr>
          <a:xfrm>
            <a:off x="6559560" y="1152360"/>
            <a:ext cx="2462040" cy="525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6867720" y="6477120"/>
            <a:ext cx="14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64960" y="2743200"/>
            <a:ext cx="1733760" cy="248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57320" y="1195560"/>
            <a:ext cx="466272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971720" y="3581280"/>
            <a:ext cx="38275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2971800" cy="189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3129120" cy="15015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http://www.nasa.gov/images/content/230240main_Pulsar1_sm.jpg"/>
          <p:cNvPicPr/>
          <p:nvPr/>
        </p:nvPicPr>
        <p:blipFill>
          <a:blip r:embed="rId1"/>
          <a:stretch/>
        </p:blipFill>
        <p:spPr>
          <a:xfrm>
            <a:off x="4290840" y="1109520"/>
            <a:ext cx="2695680" cy="2163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outreach.atnf.csiro.au/education/everyone/pulsars/jocelyn.jpg"/>
          <p:cNvPicPr/>
          <p:nvPr/>
        </p:nvPicPr>
        <p:blipFill>
          <a:blip r:embed="rId2"/>
          <a:stretch/>
        </p:blipFill>
        <p:spPr>
          <a:xfrm>
            <a:off x="6372360" y="2971800"/>
            <a:ext cx="2624040" cy="23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www.cv.nrao.edu/course/astr534/images/PSRs_discovery.jpg"/>
          <p:cNvPicPr/>
          <p:nvPr/>
        </p:nvPicPr>
        <p:blipFill>
          <a:blip r:embed="rId3"/>
          <a:stretch/>
        </p:blipFill>
        <p:spPr>
          <a:xfrm>
            <a:off x="106200" y="2590920"/>
            <a:ext cx="5380200" cy="26035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http://www.uu.nl/faculty/science/EN/research/researchinstitutes/aiu/research/PublishingImages/casa_jet_si_radio.jpg"/>
          <p:cNvPicPr/>
          <p:nvPr/>
        </p:nvPicPr>
        <p:blipFill>
          <a:blip r:embed="rId1"/>
          <a:stretch/>
        </p:blipFill>
        <p:spPr>
          <a:xfrm>
            <a:off x="115920" y="1263600"/>
            <a:ext cx="431784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astro.psu.edu/users/niel/astro1/slideshows/class29/010-TYCHO_RADIO_SUPERNOVA.jpg"/>
          <p:cNvPicPr/>
          <p:nvPr/>
        </p:nvPicPr>
        <p:blipFill>
          <a:blip r:embed="rId2"/>
          <a:stretch/>
        </p:blipFill>
        <p:spPr>
          <a:xfrm>
            <a:off x="4465800" y="1263600"/>
            <a:ext cx="467820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607320" y="4332240"/>
            <a:ext cx="76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http://www.nrao.edu/pr/2004/filaments/center.JPG"/>
          <p:cNvPicPr/>
          <p:nvPr/>
        </p:nvPicPr>
        <p:blipFill>
          <a:blip r:embed="rId1"/>
          <a:stretch/>
        </p:blipFill>
        <p:spPr>
          <a:xfrm>
            <a:off x="228600" y="1049400"/>
            <a:ext cx="8229600" cy="418284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4" descr=""/>
          <p:cNvPicPr/>
          <p:nvPr/>
        </p:nvPicPr>
        <p:blipFill>
          <a:blip r:embed="rId2"/>
          <a:stretch/>
        </p:blipFill>
        <p:spPr>
          <a:xfrm>
            <a:off x="8504280" y="901800"/>
            <a:ext cx="401760" cy="44751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chandra.harvard.edu/photo/2002/gcenter/gcenter_xray_ir_r.jpg"/>
          <p:cNvPicPr/>
          <p:nvPr/>
        </p:nvPicPr>
        <p:blipFill>
          <a:blip r:embed="rId1"/>
          <a:stretch/>
        </p:blipFill>
        <p:spPr>
          <a:xfrm>
            <a:off x="-304920" y="1292400"/>
            <a:ext cx="9536400" cy="36986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physics.udel.edu/~watson/phys208/formulas/maxwell.gif"/>
          <p:cNvPicPr/>
          <p:nvPr/>
        </p:nvPicPr>
        <p:blipFill>
          <a:blip r:embed="rId1"/>
          <a:stretch/>
        </p:blipFill>
        <p:spPr>
          <a:xfrm>
            <a:off x="5867280" y="1874880"/>
            <a:ext cx="2743200" cy="184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nrc-cnrc.gc.ca/obj/inms-ienm/images/research_images/optical_comb/COMBFIG1.gif"/>
          <p:cNvPicPr/>
          <p:nvPr/>
        </p:nvPicPr>
        <p:blipFill>
          <a:blip r:embed="rId2"/>
          <a:stretch/>
        </p:blipFill>
        <p:spPr>
          <a:xfrm>
            <a:off x="1295280" y="2971800"/>
            <a:ext cx="38386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689440" y="2666880"/>
            <a:ext cx="3048120" cy="1057320"/>
          </a:xfrm>
          <a:prstGeom prst="rect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5"/>
          <p:cNvCxnSpPr>
            <a:stCxn id="60" idx="1"/>
          </p:cNvCxnSpPr>
          <p:nvPr/>
        </p:nvCxnSpPr>
        <p:spPr>
          <a:xfrm flipH="1">
            <a:off x="3885480" y="3195720"/>
            <a:ext cx="1803960" cy="10720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gtn.sonoma.edu/images/cenA.jpg"/>
          <p:cNvPicPr/>
          <p:nvPr/>
        </p:nvPicPr>
        <p:blipFill>
          <a:blip r:embed="rId1"/>
          <a:stretch/>
        </p:blipFill>
        <p:spPr>
          <a:xfrm>
            <a:off x="152280" y="1295280"/>
            <a:ext cx="4114800" cy="40737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43000" y="5369040"/>
            <a:ext cx="34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ttp://outreach.atnf.csiro.au/images/astronomical/images/pks2356-61.gif"/>
          <p:cNvPicPr/>
          <p:nvPr/>
        </p:nvPicPr>
        <p:blipFill>
          <a:blip r:embed="rId2"/>
          <a:stretch/>
        </p:blipFill>
        <p:spPr>
          <a:xfrm>
            <a:off x="4724280" y="1295280"/>
            <a:ext cx="407988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876920" y="548640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0666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://www.starstryder.com/wp-content/uploads/2007/05/wmap_skymap.jpg"/>
          <p:cNvPicPr/>
          <p:nvPr/>
        </p:nvPicPr>
        <p:blipFill>
          <a:blip r:embed="rId1"/>
          <a:stretch/>
        </p:blipFill>
        <p:spPr>
          <a:xfrm>
            <a:off x="152280" y="3994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www.nps.gov/history/history/online_books/butowsky5/images/astro4k2.jpg"/>
          <p:cNvPicPr/>
          <p:nvPr/>
        </p:nvPicPr>
        <p:blipFill>
          <a:blip r:embed="rId2"/>
          <a:stretch/>
        </p:blipFill>
        <p:spPr>
          <a:xfrm>
            <a:off x="5486400" y="1371600"/>
            <a:ext cx="3629160" cy="28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5943600" y="4495680"/>
            <a:ext cx="30481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univers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= 13.7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http://movie-poster.ws/movies/wallpaper/scifi/et/et2.jpg"/>
          <p:cNvPicPr/>
          <p:nvPr/>
        </p:nvPicPr>
        <p:blipFill>
          <a:blip r:embed="rId1"/>
          <a:stretch/>
        </p:blipFill>
        <p:spPr>
          <a:xfrm>
            <a:off x="4114800" y="33526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197240" y="4878360"/>
            <a:ext cx="933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provides a valuable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urce of information about the univer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33720" y="2495520"/>
            <a:ext cx="69213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4400" y="1407960"/>
            <a:ext cx="728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velengt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0080" y="3886200"/>
            <a:ext cx="175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: Curi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t al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t3.gstatic.com/images?q=tbn:ANd9GcQI3pr7GpijWjjRD1K-rTKEas52vPCEtN07b581KXLcS2Nn8Os8zA"/>
          <p:cNvPicPr/>
          <p:nvPr/>
        </p:nvPicPr>
        <p:blipFill>
          <a:blip r:embed="rId1"/>
          <a:stretch/>
        </p:blipFill>
        <p:spPr>
          <a:xfrm>
            <a:off x="6858000" y="1143000"/>
            <a:ext cx="100332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525760" cy="191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404040" y="3933720"/>
            <a:ext cx="2286000" cy="182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195880" y="1071720"/>
            <a:ext cx="1716120" cy="1539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9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152388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62120" y="2584440"/>
            <a:ext cx="2666880" cy="1231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upload.wikimedia.org/wikipedia/commons/4/4c/Karl_Jansky.jpg"/>
          <p:cNvPicPr/>
          <p:nvPr/>
        </p:nvPicPr>
        <p:blipFill>
          <a:blip r:embed="rId1"/>
          <a:stretch/>
        </p:blipFill>
        <p:spPr>
          <a:xfrm>
            <a:off x="6897600" y="914400"/>
            <a:ext cx="1965240" cy="245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rao.edu/whatisra/images/jansky1.gif"/>
          <p:cNvPicPr/>
          <p:nvPr/>
        </p:nvPicPr>
        <p:blipFill>
          <a:blip r:embed="rId2"/>
          <a:stretch/>
        </p:blipFill>
        <p:spPr>
          <a:xfrm>
            <a:off x="4818240" y="3657600"/>
            <a:ext cx="4157640" cy="3070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967080" y="339408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ile:Janksy Karl radio telescope.jpg"/>
          <p:cNvPicPr/>
          <p:nvPr/>
        </p:nvPicPr>
        <p:blipFill>
          <a:blip r:embed="rId3"/>
          <a:stretch/>
        </p:blipFill>
        <p:spPr>
          <a:xfrm>
            <a:off x="1447920" y="1447920"/>
            <a:ext cx="5932440" cy="31622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37124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techbuddha.files.wordpress.com/2009/09/nobody_knows_you.jpg"/>
          <p:cNvPicPr/>
          <p:nvPr/>
        </p:nvPicPr>
        <p:blipFill>
          <a:blip r:embed="rId1"/>
          <a:stretch/>
        </p:blipFill>
        <p:spPr>
          <a:xfrm>
            <a:off x="5130720" y="251460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2:33:51Z</dcterms:created>
  <dc:creator>Jeremy P. Carlo</dc:creator>
  <dc:description/>
  <dc:language>en-US</dc:language>
  <cp:lastModifiedBy>Legion</cp:lastModifiedBy>
  <dcterms:modified xsi:type="dcterms:W3CDTF">2017-01-26T10:20:22Z</dcterms:modified>
  <cp:revision>36</cp:revision>
  <dc:subject/>
  <dc:title>Radio Astronomy: Listening to the Sky</dc:title>
</cp:coreProperties>
</file>